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305-354D-4B52-BFEE-E230C53E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889-A34A-4F60-84F4-73449BD5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177-8DA4-4055-8E7D-D107ACCD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15A-286A-419A-A4AC-96D828B0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8C1-D583-4527-A05C-9070CE02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686-D004-4788-B0F9-5F5A2788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CF9-AF0B-400E-B4C3-7DB1352A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CB4-EC72-444D-A88A-81F7A80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99C-E498-4FE8-BCA0-D940824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66C-1D05-466B-A893-0F7DD3B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CE1-DC23-4458-861C-318435A1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E14-6876-4DDE-8CE9-655A365D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A5B8-142A-4528-854A-F3C2BAFE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3ffc9"/>
                </a:solidFill>
                <a:latin typeface="Trebuchet MS"/>
              </a:rPr>
              <a:t> </a:t>
            </a:r>
            <a:br>
              <a:rPr sz="4800"/>
            </a:br>
            <a:r>
              <a:rPr b="0" lang="en-US" sz="4800" spc="-1" strike="noStrike">
                <a:solidFill>
                  <a:srgbClr val="93ffc9"/>
                </a:solidFill>
                <a:latin typeface="Trebuchet MS"/>
              </a:rPr>
              <a:t>      </a:t>
            </a:r>
            <a:r>
              <a:rPr b="0" lang="en-US" sz="4800" spc="-1" strike="noStrike">
                <a:solidFill>
                  <a:srgbClr val="990000"/>
                </a:solidFill>
                <a:latin typeface="Trebuchet MS"/>
              </a:rPr>
              <a:t>Gender Bais Survey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5800" y="3962520"/>
            <a:ext cx="954396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   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              </a:t>
            </a:r>
            <a:r>
              <a:rPr b="0" lang="en-US" sz="5300" spc="-1" strike="noStrike">
                <a:solidFill>
                  <a:srgbClr val="990000"/>
                </a:solidFill>
                <a:latin typeface="Trebuchet MS"/>
              </a:rPr>
              <a:t>By Desmond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                     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7920" y="2540160"/>
            <a:ext cx="2916360" cy="263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1360" y="2540160"/>
            <a:ext cx="2268360" cy="255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02320" y="2540160"/>
            <a:ext cx="139536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57240" y="0"/>
            <a:ext cx="990756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6efff"/>
                </a:solidFill>
                <a:latin typeface="Trebuchet MS"/>
              </a:rPr>
              <a:t>                  </a:t>
            </a: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 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    </a:t>
            </a:r>
            <a:r>
              <a:rPr b="0" lang="en-US" sz="4800" spc="-1" strike="noStrike">
                <a:solidFill>
                  <a:srgbClr val="3333cc"/>
                </a:solidFill>
                <a:latin typeface="Trebuchet MS"/>
              </a:rPr>
              <a:t>This is a Gender Bais Survey to  show the streotypes of genders.These are the res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             </a:t>
            </a:r>
            <a:r>
              <a:rPr b="0" lang="en-US" sz="4300" spc="-1" strike="noStrike">
                <a:solidFill>
                  <a:srgbClr val="00ffff"/>
                </a:solidFill>
                <a:latin typeface="Trebuchet MS"/>
              </a:rPr>
              <a:t>Questions (1-3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   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1.Are men dog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 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2.Can a women do a men's job and be better at i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 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3.Are men more of a neat freak than wome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               </a:t>
            </a: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Questions (4-6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    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4.Are girls physically stronger than boy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 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5.Can a single father be more motherly than a mother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    </a:t>
            </a:r>
            <a:r>
              <a:rPr b="0" lang="en-US" sz="4300" spc="-1" strike="noStrike">
                <a:solidFill>
                  <a:srgbClr val="3333cc"/>
                </a:solidFill>
                <a:latin typeface="Trebuchet MS"/>
              </a:rPr>
              <a:t>6.are men more emotional than wome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                   </a:t>
            </a: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Questions (7-10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36720"/>
            <a:ext cx="966456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6efff"/>
                </a:solidFill>
                <a:latin typeface="Trebuchet MS"/>
              </a:rPr>
              <a:t>       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 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7.do men dance better than wome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        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8.Do women out smart men more than they do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        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9.Do men make better decisions than wome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        </a:t>
            </a:r>
            <a:r>
              <a:rPr b="0" lang="en-US" sz="3700" spc="-1" strike="noStrike">
                <a:solidFill>
                  <a:srgbClr val="3333cc"/>
                </a:solidFill>
                <a:latin typeface="Trebuchet MS"/>
              </a:rPr>
              <a:t>10.Do women learn faster than me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74960" y="203040"/>
            <a:ext cx="52624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    </a:t>
            </a:r>
            <a:r>
              <a:rPr b="0" lang="en-US" sz="3500" spc="-1" strike="noStrike">
                <a:solidFill>
                  <a:srgbClr val="3333cc"/>
                </a:solidFill>
                <a:latin typeface="Trebuchet MS"/>
              </a:rPr>
              <a:t>Child Surve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117440"/>
          <a:ext cx="8120160" cy="6076800"/>
        </p:xfrm>
        <a:graphic>
          <a:graphicData uri="http://schemas.openxmlformats.org/drawingml/2006/table">
            <a:tbl>
              <a:tblPr/>
              <a:tblGrid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</a:tblGrid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   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Q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71560" y="65160"/>
            <a:ext cx="515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rebuchet MS"/>
              </a:rPr>
              <a:t>Adult Surv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84280" y="965160"/>
          <a:ext cx="883908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965160"/>
                    <a:ext cx="88390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During this survey I’ve seen that children think that there sex is better than the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Ad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But, during this survey the adults think that both are special In their own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y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1.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2.Yes they can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3.Never in my life have I seen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Vanessa Collier</cp:lastModifiedBy>
  <dcterms:modified xsi:type="dcterms:W3CDTF">2010-05-17T17:18:18Z</dcterms:modified>
  <cp:revision>5</cp:revision>
  <dc:subject/>
  <dc:title>PowerPoint Presentation</dc:title>
</cp:coreProperties>
</file>